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0D6-01A8-46AD-818B-5E86CEF5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495-FAC1-49D1-844E-8BA80BB0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695-342F-4FE4-A54D-96BC127A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B3B-72CC-481C-8B8E-B6CE553D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DBAF-CEA1-47E4-BD9E-0F483EC9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1C17-1B9F-4CC6-8FF8-F47D3921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3DA4-61FD-4274-A1A8-1A4BE44C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A66D-FF02-41FE-99CA-965CC9E8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6F9E-444C-44EB-8C2F-6B9DDF74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8DB6-E17D-4A4F-812A-F064A9DC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D761-E307-4042-A350-9D7316A1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B32-DFBE-4D40-8095-0A256C9D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4D47-50EE-4D59-8EFB-5A39998B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1149-ACB2-44E4-8F87-5C18AC4A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FD0B-9FBA-4663-81BD-9BE694F5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C96B-02FA-49C6-828F-C6747B53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34ED-4953-4A9D-8E26-2A9B8B6C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6E9-2E53-4142-A404-E29E8884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5E1-14D2-4959-B39A-A9EBE203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425-7C1D-4F74-A698-2EF1E50B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BED-2753-405E-BD31-F6668995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5E8-0E32-488E-8AD2-7958C8FF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972-9044-45F7-88A3-1000D63C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53E-22BC-4E74-8C43-3B0AB063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2349-C1A6-40F1-8468-23C87BB39A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AE4A-7D23-4D7F-AFE9-0E5BFAD5A7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5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BLICZANIE POLA POWIERZCHNI PROSTOPADŁOŚCIA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OBLICZYĆ POLE POWIERZCHNI PROSTOPADŁOŚCIAN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920" y="1314000"/>
            <a:ext cx="736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licz pole powierzchni prostopadłościanu o wymiarach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 5 cm, 4 cm, 6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57360" y="1719360"/>
          <a:ext cx="392112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1719360"/>
                    <a:ext cx="39211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422360" y="1763640"/>
          <a:ext cx="6191280" cy="491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2360" y="1763640"/>
                    <a:ext cx="6191280" cy="49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OBLICZYĆ POLE POWIERZCHNI PROSTOPADŁOŚCIAN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74160" y="4344840"/>
            <a:ext cx="439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stały nam następujące prostoką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I i VI o wymiarach 5 cm i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II i IV o wymiarach 6 cm i 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III i V o wymiarach 6 cm i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225440"/>
          <a:ext cx="526572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225440"/>
                    <a:ext cx="52657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OBLICZYĆ POLE POWIERZCHNI PROSTOPADŁOŚCIAN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05640" y="1088640"/>
            <a:ext cx="29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liczamy pola prostokątó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6640" y="1447560"/>
            <a:ext cx="765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P = 5 cm · 4 c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2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nieważ mamy dwa prostokąty o tych samych wymiarach to wynik mnożymy przez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 ścian I i VI = 2 · 2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e ścian I i VI = 40 c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6640" y="2662200"/>
            <a:ext cx="765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P = 6 cm • 5 c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3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nieważ mamy dwa prostokąty o tych samych wymiarach to wynik mnożymy przez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 ścian II i IV = 2 • 3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e ścian II i IV = 60 c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6640" y="3831840"/>
            <a:ext cx="765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P = 6 cm • 4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24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nieważ mamy dwa prostokąty o tych samych wymiarach to wynik mnożymy przez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 ścian III i V = 2 • 24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e ścian III i V = 48 c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280" y="5712840"/>
            <a:ext cx="87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le ścian I i VI + pole ścian II i IV + pole ścian III i V = 40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60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48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le ścian I i VI + pole ścian II i IV + pole ścian III i V = 148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46280" y="509436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czamy sumę pól prostoką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6640" y="1942560"/>
            <a:ext cx="738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ole powierzchni całkowitej prostopadłościanu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suma pól wszystkich ścian prostopadłościa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520" y="1672200"/>
            <a:ext cx="780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licz pole powierzchni ścian bocznych prostopadłościa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cz pole powierzchni podstaw prostopadłościa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01:27Z</dcterms:modified>
  <cp:revision>104</cp:revision>
  <dc:subject/>
  <dc:title>Slajd 1</dc:title>
</cp:coreProperties>
</file>